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3DF-1386-4D66-AF89-0C27CED4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7B3-F87E-4920-A960-4382F1AF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B8A-451E-4C5A-92D3-9C0619E3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AE7-6273-4862-810F-67A49C0B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181-9B90-4A0B-BC91-0CF1677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09D-E850-40E8-B289-7C142AE7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D61-4DCA-449B-9887-50AB7860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FE8-2E4A-456E-8640-8ADED36A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0AC-022B-412E-AE68-D56D0024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736-33D9-4EC2-99AE-7ADCAF4E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DF07-983E-4CAF-AE64-E12B1859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40DE-AA51-49C5-BB15-D55C7A23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1B16-67F4-4DB2-BB93-8404CA74F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09480"/>
            <a:ext cx="701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hakespeare: Tragedies and Comed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81280" y="2590920"/>
            <a:ext cx="1997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90920" y="2286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Trage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219320" cy="115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1676520"/>
            <a:ext cx="82296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lassic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d’s determine fate and there is no way to alter destiny. Main character has a great deal of pride that drives him to try to change destiny, but in the end he realizes that he must accept his f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“Oedipus Re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dipus is destined to kill his father and marry his mother. Even though he tries to outwit his fate by running away, he eventually lives out the oracle’s prophe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r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ople make their own choices and determine their own dest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uts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lly feels so guilty about Johnny’s death that he allows the police to shoot him to pay for his bad choices throughout his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286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gedies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219320"/>
            <a:ext cx="82296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akespea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kespeare’s tragedies are a combination of both classical and modern.  He uses fate and destiny to add excitement and anticipation, but he also allows characters to make their own choices to reach thei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“Hamlet” (The prince must avenge his father’s death because a the ghost of his father tells him he must do this deed. Hamlet’s choices lead to the death of his entire family and many friends as well as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liloqu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eches made alone; help audience to understand the character and his loneliness; audience becomes sympathetic to the main character and allows us to see why the main character could make mistakes that lead to his dem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nolog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long, uninterrupted speech delivered by one person in the presence of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agonist/Tragic Her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ually of high rank (king, prince, duke); involved in a conflict that must be resolved but bad luck and bad choices lead to death of the hero as well as many others; audience feels as if the main character is a doomed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4652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3200" y="228600"/>
            <a:ext cx="358128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Come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necessarily funny but usually have a happy ending; play can still be touched by sadness in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33812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057400"/>
            <a:ext cx="85345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Happy”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Early Happy Comedies: plot important; characters not realistic;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solved and everyone lives happily ever after; fools and jesters- comic relief, messengers, offer advice and friendship, clever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Later Happy Comedies: women characters become important and use intelligence; relationships explored more deeply-”true love”-characters overcome obstacles to true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Problem Play”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ious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Romanc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imilar to fairy tales (The Temp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52480" y="228600"/>
            <a:ext cx="632484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inders for Test on Wednesday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complete the study guide for the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st is split into four parts: Part I and Part II are multiple choice. Part III is a series of short answer questions. Part IV is a discussion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be allowed to use your class notes, a dictionary, and a thesaurus for Part IV of the test. This does not include your study guide or Shakespeare pack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complete Parts I-III and turn those in before you receive Part IV. Make sure that you have loose-leaf paper with you to answer the discussion qu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2920" y="4495680"/>
            <a:ext cx="13158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3:49:55Z</dcterms:created>
  <dc:creator>shharriman</dc:creator>
  <dc:description/>
  <dc:language>en-US</dc:language>
  <cp:lastModifiedBy>shharriman</cp:lastModifiedBy>
  <dcterms:modified xsi:type="dcterms:W3CDTF">2010-08-23T00:46:28Z</dcterms:modified>
  <cp:revision>9</cp:revision>
  <dc:subject/>
  <dc:title>Slide 1</dc:title>
</cp:coreProperties>
</file>